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D95-7ACA-433D-991C-5467570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5F6-E5AE-481F-96A4-CC9C6F1A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956-4F55-4E6A-A115-0F9A5EBD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AFB-C031-41DE-94A2-EF3CF039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9C9-F7BA-42BF-ADF1-58411B4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2D5-E1DA-4971-9617-B0E23DC7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9FA-E312-4231-BB47-0A7EE92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A52-49F8-4B86-A1D0-18FFA181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225-F4A1-4283-8B21-07A4785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744-30C6-410F-8803-6A25581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DE8-3C06-4D2E-B85D-F7F0834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97D-AAC5-40E1-A8FD-223D721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8EB-04D3-4B78-91AC-AC855AFC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380880"/>
            <a:ext cx="548640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33cc33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e Play in the Dirt</a:t>
            </a:r>
            <a:endParaRPr b="0" lang="en-US" sz="1800" spc="1" strike="noStrike">
              <a:ln cap="rnd" w="19080">
                <a:solidFill>
                  <a:srgbClr val="33cc33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19934400">
            <a:off x="0" y="4419360"/>
            <a:ext cx="3276720" cy="2438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286000"/>
            <a:ext cx="42102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de the New 2.5-Mil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ntain Bike Trai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terans' Park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41936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5800" y="0"/>
            <a:ext cx="8001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ve Fun But Not 2 Much.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1096600">
            <a:off x="304920" y="320004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21010800">
            <a:off x="761760" y="380520"/>
            <a:ext cx="7162560" cy="29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There are also rul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that apply fr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preventing A SERIOUS accident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3880" y="2438280"/>
            <a:ext cx="5915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PLAYING around!!!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990720"/>
            <a:ext cx="861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CAUTION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067440" cy="163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95280" y="129528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ke off at normal speed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380880"/>
            <a:ext cx="7162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VE FUN!!!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07:18Z</dcterms:created>
  <dc:creator>765892</dc:creator>
  <dc:description/>
  <dc:language>en-US</dc:language>
  <cp:lastModifiedBy>765892</cp:lastModifiedBy>
  <dcterms:modified xsi:type="dcterms:W3CDTF">2009-03-30T16:07:46Z</dcterms:modified>
  <cp:revision>3</cp:revision>
  <dc:subject/>
  <dc:title>Slide 1</dc:title>
</cp:coreProperties>
</file>